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C3F4-6B8D-46F4-9C21-8F4B6B8C34A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AF3C-654A-4596-A777-96D72EEAEC5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η δημοκρατία ακμάζει χάρη στην ελεύθερη ροή των πληροφοριών, οι αυταρχικοί ηγέτες διατηρούνται ισχυροί περιορίζοντας την ελεύθερη έκφραση, με αποτέλεσμα η δημοσιογραφία να είναι καθυποταγμένη, αν όχι δουλοπρεπή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υταρχικά καθεστώτα, οι δημοσιογράφοι όχι μόνο δεν λειτουργούν ως τέταρτη εξουσία, ρίχνοντας φως στις σκοτεινές γωνιές της κυβερνητικής δραστηριότητας, αλλά υποτάσσονται στην πολιτική εξουσί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νιχρά οικονομικά μέσα στο χώρο των μίντια καθιστούν τα μέσα ενημέρωσης ακόμη πιο ευάλωτα στις πιέσει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ρατικοί τηλεοπτικοί σταθμοί και οι επιχορηγούμενες εφημερίδες αναπαράγουν την πολιτική γραμμή του καθεστώτος, οι δημοσιογράφοι που ασκούν κριτική δέχονται ενοχλήσεις, ενώ ολόκληρος ο κλάδος των μέσων ενημέρωσης μαθαίνει να επιβιώνει μέσω της αυτολογοκρισία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9873-BFAC-4618-8E2C-48D2600E1F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παγάνδα (propaganda) είναι μορφή επικοινωνίας ενός οργανισμού που στοχεύει στην προώθηση συγκεκριμένου στόχου μέσω της αλλαγής των στάσεων και ιδιαίτερα της συμπεριφοράς μεγάλου αριθμού ανθρώπων. Ο όρος έχει θρησκευτικές καταβολές: το 1622, η Καθολική Εκκλησία ίδρυσε ένα Κολέγιο Προπαγάνδας για να διαδώσει (στα λατινικά propagare) την πίσ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3449-5032-4ED5-A849-6D5C9AF8CC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ο έλεγχος επί των μέσων ενημέρωσης είναι πολύ λιγότερο εκτεταμένος σε σχέση με τα απολυταρχικά κράτ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η κυρίαρχη πολιτική φιγούρα κυριαρχεί και στη ραδιοτηλεοπτική κάλυψη των ειδήσεων, ακόμη και όπου δεν υφίσταται κάποια μορφή άμεσης ή έμμεσης λογοκρι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όμα και σε πολλές πρώην κομμουνιστικές, ανελεύθερες δημοκρατίες, οι πιέσεις προς τα μέσα ενημέρωσης -όχι μόνο από πολιτικούς αλλά και από ισχυρά πρόσωπα του επιχειρηματικού κόσμου- παραμένουν ισχυρές. Στη Ρωσία, για παράδειγμα, η επιρροή αυτή απορρέει ακριβώς από τον δεσπόζοντα ρόλο που παίζει η τηλεόραση στην πολιτική επικοινωνία.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D7C2-8CCC-4653-9C43-58642735722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αζικά μέσα (mass media) αναφέρονται στις μεθόδους επικοινωνίας που μπορούν να προσεγγίσουν ταυτοχρόνως ένα μεγάλο και εν δυνάμει απεριόριστο αριθμό δεκτών. Τα μέσα αυτά περιλαμβάνουν την τηλεόραση, τις εφημερίδες, το ραδιόφωνο, τα βιβλία, τα περιοδικά, τον κινηματογράφο, τα ιστολόγια, τις ιστοσελίδες και τις αφί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D977-9AB7-4A9D-823A-5E34120630A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ξέταση της πολιτικής επικοινωνίας, είναι χρήσιμη η κατάτμηση της δραστηριότητας αυτής στα συστατικά της στοιχεία. Αυτό μάς οδηγεί σε ένα μοντέλο που είναι γνωστό ως μοντέλο της μετάδοσης: η πράξη της επικοινωνίας συνίσταται στο ποιος λέει τι σε ποιον, με ποιο μέσο και με ποια αποτελέσματα. Το μοντέλο διακρίνει πέντε συνιστώσες σε κάθε μορφή επικοινων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ν επικοινωνητή: ποι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μήνυμα: 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κανάλι: με ποιο μέσ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δέκτη: σε ποι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ια εκτιμώμενη επίδραση: με ποιο αποτέλεσμα;</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1934-1686-4253-955C-FFD3EB8DB59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ύγχρονες τάσεις στη μαζική επικοινωνία μπορούν να προσδιοριστούν ως εξή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μπορευματοποίηση</a:t>
            </a:r>
            <a:r>
              <a:rPr b="0" lang="en-US" sz="1200" spc="-1" strike="noStrike">
                <a:solidFill>
                  <a:srgbClr val="000000"/>
                </a:solidFill>
                <a:latin typeface="Arial"/>
              </a:rPr>
              <a:t>:</a:t>
            </a:r>
            <a:r>
              <a:rPr b="0" lang="el-GR" sz="1200" spc="-1" strike="noStrike">
                <a:solidFill>
                  <a:srgbClr val="000000"/>
                </a:solidFill>
                <a:latin typeface="Arial"/>
              </a:rPr>
              <a:t> παρακμή των δημόσιων μέσων ενημέρωσης, άνθηση των ιδιωτικών, κερδοσκοπικών μέσων που αντιμετωπίζουν τους χρήστες ως καταναλωτές παρά ως πολί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Κατακερματισμός</a:t>
            </a:r>
            <a:r>
              <a:rPr b="0" lang="en-US" sz="1200" spc="-1" strike="noStrike">
                <a:solidFill>
                  <a:srgbClr val="000000"/>
                </a:solidFill>
                <a:latin typeface="Arial"/>
              </a:rPr>
              <a:t>:</a:t>
            </a:r>
            <a:r>
              <a:rPr b="0" lang="el-GR" sz="1200" spc="-1" strike="noStrike">
                <a:solidFill>
                  <a:srgbClr val="000000"/>
                </a:solidFill>
                <a:latin typeface="Arial"/>
              </a:rPr>
              <a:t> πληθώρα καναλιών και αυξημένη δυνατότητα των καταναλωτών να κατεβάζουν από το Διαδίκτυο και να παρακολουθούν προγράμματα κατά παραγγελ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Παγκοσμιοποίηση</a:t>
            </a:r>
            <a:r>
              <a:rPr b="0" lang="en-US" sz="1200" spc="-1" strike="noStrike">
                <a:solidFill>
                  <a:srgbClr val="000000"/>
                </a:solidFill>
                <a:latin typeface="Arial"/>
              </a:rPr>
              <a:t>:</a:t>
            </a:r>
            <a:r>
              <a:rPr b="0" lang="el-GR" sz="1200" spc="-1" strike="noStrike">
                <a:solidFill>
                  <a:srgbClr val="000000"/>
                </a:solidFill>
                <a:latin typeface="Arial"/>
              </a:rPr>
              <a:t> ευκολότερη πρόσβαση στα διεθνή γεγονότα και στα μέσα επικοινωνίας στο πλαίσιο του πλανητικού χωρι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ιαντίδραση</a:t>
            </a:r>
            <a:r>
              <a:rPr b="0" lang="en-US" sz="1200" spc="-1" strike="noStrike">
                <a:solidFill>
                  <a:srgbClr val="000000"/>
                </a:solidFill>
                <a:latin typeface="Arial"/>
              </a:rPr>
              <a:t>:</a:t>
            </a:r>
            <a:r>
              <a:rPr b="0" lang="el-GR" sz="1200" spc="-1" strike="noStrike">
                <a:solidFill>
                  <a:srgbClr val="000000"/>
                </a:solidFill>
                <a:latin typeface="Arial"/>
              </a:rPr>
              <a:t> αύξηση της χρήσης διαντιδραστικών καναλιών (όπως το ηλεκτρονικό ταχυδρομείο και τα παιχνίδια), περιορίζει την παθητική έκθεση στην πολιτική μέσω της παραδοσιακής εκ των άνω επικοινωνία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1A65-D13E-419C-9932-156572C3D2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δομή των ΜΜΕ (structure of the media) αναφέρεται στα γενικά πρότυπα που ακολουθούν τα ΜΜΕ και, ειδικότερα, στις σχέσεις μεταξύ των μέσων επικοινωνίας, του κράτους και της οικονομίας. Για παράδειγμα, ο όγκος της κυκλοφορίας των εφημερίδων, η απήχηση της δημόσιας ραδιοτηλεόρασης και το κατά πόσον ο Τύπος είναι κομματικοποιημένος αποτελούν δομικά στοιχεία των μέσων ενημέρ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57B4-9CE8-4FCB-8590-8CB1AEA7A16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σσερις είναι οι κύριοι μηχανισμοί της επίδρασης που ασκούν τα μέσα</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ίσχυση (reinforcement)</a:t>
            </a:r>
            <a:r>
              <a:rPr b="0" lang="en-US" sz="1200" spc="-1" strike="noStrike">
                <a:solidFill>
                  <a:srgbClr val="000000"/>
                </a:solidFill>
                <a:latin typeface="Arial"/>
              </a:rPr>
              <a:t>:</a:t>
            </a:r>
            <a:r>
              <a:rPr b="0" lang="el-GR" sz="1200" spc="-1" strike="noStrike">
                <a:solidFill>
                  <a:srgbClr val="000000"/>
                </a:solidFill>
                <a:latin typeface="Arial"/>
              </a:rPr>
              <a:t> τα μέσα επικοινωνίας ενισχύουν τις προϋπάρχουσες απόψεις του κοινού.</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μόρφωση της ημερήσιας θεματολογίας (agenda- setting)</a:t>
            </a:r>
            <a:r>
              <a:rPr b="0" lang="en-US" sz="1200" spc="-1" strike="noStrike">
                <a:solidFill>
                  <a:srgbClr val="000000"/>
                </a:solidFill>
                <a:latin typeface="Arial"/>
              </a:rPr>
              <a:t>:</a:t>
            </a:r>
            <a:r>
              <a:rPr b="0" lang="el-GR" sz="1200" spc="-1" strike="noStrike">
                <a:solidFill>
                  <a:srgbClr val="000000"/>
                </a:solidFill>
                <a:latin typeface="Arial"/>
              </a:rPr>
              <a:t> τα μέσα επικοινωνίας επηρεάζουν τα θέματα για τα οποία σκεφτόμαστε και συζητούμ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ρμηνευτική πλαισίωση (framing)</a:t>
            </a:r>
            <a:r>
              <a:rPr b="0" lang="en-US" sz="1200" spc="-1" strike="noStrike">
                <a:solidFill>
                  <a:srgbClr val="000000"/>
                </a:solidFill>
                <a:latin typeface="Arial"/>
              </a:rPr>
              <a:t>:</a:t>
            </a:r>
            <a:r>
              <a:rPr b="0" lang="el-GR" sz="1200" spc="-1" strike="noStrike">
                <a:solidFill>
                  <a:srgbClr val="000000"/>
                </a:solidFill>
                <a:latin typeface="Arial"/>
              </a:rPr>
              <a:t> ο τρόπος αφήγησης του γεγονότος ως εύληπτης ιστορίας αναδεικνύει συγκεκριμένες πτυχές του.</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υτερογενής επίδραση (priming)</a:t>
            </a:r>
            <a:r>
              <a:rPr b="0" lang="en-US" sz="1200" spc="-1" strike="noStrike">
                <a:solidFill>
                  <a:srgbClr val="000000"/>
                </a:solidFill>
                <a:latin typeface="Arial"/>
              </a:rPr>
              <a:t>:</a:t>
            </a:r>
            <a:r>
              <a:rPr b="0" lang="el-GR" sz="1200" spc="-1" strike="noStrike">
                <a:solidFill>
                  <a:srgbClr val="000000"/>
                </a:solidFill>
                <a:latin typeface="Arial"/>
              </a:rPr>
              <a:t> η κάλυψη των μέσων επηρεάζει τον τρόπο με τον οποίο ερμηνεύουμε γεγονότα πέραν αυτών του συγκεκριμένου ρεπορτάζ.</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878F-BE1A-4B08-B8CC-1B654BEA17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οινή γνώμη (public opinion) μπορεί να αναφέρεται απλώς στο εύρος των απόψεων που έχει ένα σημαντικό ποσοστό του πληθυσμού για κάποιο αμφιλεγόμενο ζήτημα. O πιο φιλόδοξος ορισμός είναι ότι ο όρος υποδηλώνει τη σταθμισμένη κρίση μιας κοινότητας για ένα θέμα κοινού ενδιαφέροντος, κρίση που σχηματίζεται στο πλαίσιο κοινών πολιτικών στόχ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298B-87F7-48F6-9D36-14586040BAE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φυγμομέτρηση συνίσταται σε μια σειρά από ερωτήματα που διατυπώνονται με συγκεκριμένο τρόπο σε ένα συστηματικά επιλεγμένο δείγμα του πληθυσμού. Ο όρος παραπέμπει συνήθως σε περιορισμένου εύρους έρευνες, που αφορούν θέματα τρέχοντος ενδιαφέροντος και γίνονται για λογαριασμό των μέσων ενημέρωσης. Οι έρευνες γνώμης διενεργούνται συνήθως πρόσωπο με πρόσωπο, από τηλεφώνου ή μέσω ηλεκτρονικού ταχυδρομείου.</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ιγματοληπτική έρευνα χρησιμοποιεί συνήθως μεθόδους παρόμοιες με αυτές των ερευνών γνώμης, με τη διαφορά, όμως, ότι το ερωτηματολόγιο είναι πιο λεπτομερές. Διενεργείται συνήθως για λογαριασμό κυβερνήσεων και ακαδημαϊκών ερευνητώ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μάδα εστίασης είναι μια συντονισμένη συζήτηση στο πλαίσιο μικρής ομάδας συμμετεχόντων πάνω σε συγκεκριμένο θέμα. Οι ομάδες εστίασης αποτελούν τεχνικές ποιοτικής καταγραφής στοιχείων, που χρησιμοποιούνται για να διερευνήσουν τις σκέψεις και τα συναισθήματα που κρύβονται πίσω από τις στάσεις των ανθρώπων. Πρόκειται για τεχνική ανοιχτού τέλους, εξαιρετικά δημοφιλή στα στρατηγεία των κομμάτ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διαβουλευτικές δημοσκοπήσεις με επιλεγμένα δείγματα πολιτών ή βήματα των πολιτών, τους συμμετέχοντες ενημερώνουν και τους θέτουν ερωτήματα ειδικοί και πολιτικά πρόσωπα. Προτού μετρηθούν οι γνώμες τους, προηγείται διάλογος. Σκοπός της τεχνικής αυτής είναι να αναδείξει τις στάσεις που θα είχε η κοινή γνώμη εάν είχε ενημερωθεί επαρκώς για το εκάστοτε ζήτημ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BB484-0729-43F9-8F9F-310694210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5181B-772B-46E1-AB56-BA21FECA2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07614-19E7-4B32-9BD5-EB93C770B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46D51-D76B-4314-90DC-232D34132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3240A-E61E-4D6D-8563-345E992F9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0CDF-6CCA-45B2-862D-7F72151FA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90313-4E7D-45D6-8C49-B1C4730D0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41E04-B616-4784-8559-7C59928B7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F4979-AC82-41B3-9CF0-F1678096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F56A6-6B76-4CAB-B89D-A18EF0763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76090-3C91-4A1A-882E-7919F6A41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BDFF-1BE8-4A20-9F9E-D24F87B2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3B1F-B8A5-4F75-8EC8-4547ABA7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9E2AA-9681-4CE2-83F6-0FFFB50D6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C08FB-E2DC-43E2-8126-397CE87C1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AECB3-B3DA-4E49-B649-E916A5FE0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9F977-7AD7-4AAA-978C-E622F774A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D30E-0D9B-4EF4-8930-7A425391D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BA245-C867-48C5-8799-A329DECE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BC50-9D38-47A9-8B65-393320562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6EA3-EAEE-40F4-A45B-36DB9CD4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2F7C-68B7-4D96-BF05-0F528D405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3A05-836F-4610-9244-BF4D3DAE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9B45-8AB5-42A3-A2BA-FE812DFD2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5880-B232-421C-B168-FDDBA5A73FE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90EB-1439-4CCC-9CC6-DDFBA5BBC5D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8</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επικοιν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a:t>
            </a:r>
            <a:r>
              <a:rPr b="0" lang="en-US" sz="3800" spc="-1" strike="noStrike">
                <a:solidFill>
                  <a:srgbClr val="660033"/>
                </a:solidFill>
                <a:latin typeface="Times New Roman"/>
              </a:rPr>
              <a:t> </a:t>
            </a:r>
            <a:r>
              <a:rPr b="0" lang="el-GR" sz="3800" spc="-1" strike="noStrike">
                <a:solidFill>
                  <a:srgbClr val="660033"/>
                </a:solidFill>
                <a:latin typeface="Times New Roman"/>
              </a:rPr>
              <a:t>μέσα ενημέρωσης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ός ελεύθερης έκφρα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ημοσιογραφία είναι καθυποταγμέν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νιχρά οικονομικά μέσ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παραγωγή της πολιτικής γραμμής του καθεστώτο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ημοσιογράφοι αυτολογοκρίνοντα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a:t>
            </a:r>
            <a:r>
              <a:rPr b="0" lang="en-US" sz="3800" spc="-1" strike="noStrike">
                <a:solidFill>
                  <a:srgbClr val="660033"/>
                </a:solidFill>
                <a:latin typeface="Times New Roman"/>
              </a:rPr>
              <a:t> </a:t>
            </a:r>
            <a:r>
              <a:rPr b="0" lang="el-GR" sz="3800" spc="-1" strike="noStrike">
                <a:solidFill>
                  <a:srgbClr val="660033"/>
                </a:solidFill>
                <a:latin typeface="Times New Roman"/>
              </a:rPr>
              <a:t>μέσα ενημέρωσης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παγάνδα (propaganda) είναι μορφή επικοινωνίας ενός οργανισμού που στοχεύει στην προώθηση συγκεκριμένου στόχου μέσω της αλλαγής των στάσεων και ιδιαίτερα της συμπεριφοράς μεγάλου αριθμού ανθρώπ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μέσα ενημέρωσης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γαλύτερη ελευθερία σε σχέση με τα απολυταρχ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βολή της κυρίαρχης πολιτικής φιγούρ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ιέσεις από πολιτικούς και ισχυρά πρόσωπα του επιχειρηματικού κόσμ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μαζικά μέσα (mass media) αναφέρονται στις μεθόδους επικοινωνίας που μπορούν να προσεγγίσουν ταυτοχρόνως ένα μεγάλο και εν δυνάμει απεριόριστο αριθμό δεκτών. Τα μέσα αυτά περιλαμβάνουν την τηλεόραση, τις εφημερίδες, το ραδιόφωνο, τα βιβλία, τα περιοδικά, τον κινηματογράφο, τα ιστολόγια, τις ιστοσελίδες και τις αφίσες.</a:t>
            </a:r>
            <a:endParaRPr b="0" lang="en-US" sz="2800" spc="-1" strike="noStrike">
              <a:solidFill>
                <a:srgbClr val="000000"/>
              </a:solidFill>
              <a:latin typeface="Arial"/>
            </a:endParaRPr>
          </a:p>
        </p:txBody>
      </p:sp>
      <p:sp>
        <p:nvSpPr>
          <p:cNvPr id="107"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α μαζικά μέσα</a:t>
            </a:r>
            <a:endParaRPr b="0" lang="en-US" sz="4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8.1:</a:t>
            </a:r>
            <a:r>
              <a:rPr b="0" lang="en-US" sz="2000" spc="-1" strike="noStrike">
                <a:solidFill>
                  <a:srgbClr val="000000"/>
                </a:solidFill>
                <a:latin typeface="Arial"/>
              </a:rPr>
              <a:t> </a:t>
            </a:r>
            <a:r>
              <a:rPr b="0" lang="el-GR" sz="2000" spc="-1" strike="noStrike">
                <a:solidFill>
                  <a:srgbClr val="000000"/>
                </a:solidFill>
                <a:latin typeface="Arial"/>
              </a:rPr>
              <a:t>Το «μοντέλο μετάδοσης» της πολιτικής επικοινωνίας</a:t>
            </a:r>
            <a:endParaRPr b="0" lang="en-US" sz="2000" spc="-1" strike="noStrike">
              <a:solidFill>
                <a:srgbClr val="000000"/>
              </a:solidFill>
              <a:latin typeface="Arial"/>
            </a:endParaRPr>
          </a:p>
        </p:txBody>
      </p:sp>
      <p:sp>
        <p:nvSpPr>
          <p:cNvPr id="109" name="PlaceHolder 2"/>
          <p:cNvSpPr>
            <a:spLocks noGrp="1"/>
          </p:cNvSpPr>
          <p:nvPr>
            <p:ph type="title"/>
          </p:nvPr>
        </p:nvSpPr>
        <p:spPr>
          <a:xfrm>
            <a:off x="76212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ο «μοντέλο μετάδοσης» της πολιτικής επικοινωνίας</a:t>
            </a:r>
            <a:endParaRPr b="0" lang="en-US" sz="3800" spc="-1" strike="noStrike">
              <a:solidFill>
                <a:srgbClr val="660033"/>
              </a:solidFill>
              <a:latin typeface="Times New Roman"/>
            </a:endParaRPr>
          </a:p>
        </p:txBody>
      </p:sp>
      <p:pic>
        <p:nvPicPr>
          <p:cNvPr id="110" name="Picture 5" descr="C:\Users\EPIMELEIA\Dropbox\Kritiki-Book-Proofing\14-sigritiki-politiki-hague\images\Hag_Fig_08_01.png"/>
          <p:cNvPicPr/>
          <p:nvPr/>
        </p:nvPicPr>
        <p:blipFill>
          <a:blip r:embed="rId1"/>
          <a:stretch/>
        </p:blipFill>
        <p:spPr>
          <a:xfrm>
            <a:off x="703440" y="2514600"/>
            <a:ext cx="8288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ανάπτυξη των μέσων επικοινωνίας</a:t>
            </a:r>
            <a:endParaRPr b="0" lang="en-US" sz="3800" spc="-1" strike="noStrike">
              <a:solidFill>
                <a:srgbClr val="66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γχρονες τάσεις στη μαζική επικοινωνί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μπορευματ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ακερματισμό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γκοσμ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ντίδρα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ές των ΜΜΕ</a:t>
            </a:r>
            <a:endParaRPr b="0" lang="en-US" sz="42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ομή των ΜΜΕ (structure of the media) αναφέρεται στα γενικά πρότυπα που ακολουθούν τα ΜΜΕ και, ειδικότερα, στις σχέσεις μεταξύ των μέσων επικοινωνίας, του κράτους και της οικονομ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 αντίκτυπος των μέσων</a:t>
            </a:r>
            <a:endParaRPr b="0" lang="en-US" sz="42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πιδράσεις των μέσων επικοινωνία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ίσχυση (reinforcement)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μόρφωση της ημερήσιας θεματολογίας (agenda- setting)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ρμηνευτική πλαισίωση (framing)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υτερογενής επίδραση (prim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οινή γνώμη (public opinion) μπορεί να αναφέρεται απλώς (1) στο εύρος των απόψεων που έχει ένα σημαντικό ποσοστό του πληθυσμού για κάποιο αμφιλεγόμενο ζήτημα. O πιο φιλόδοξος ορισμός είναι ότι (2) ο όρος υποδηλώνει τη σταθμισμένη κρίση μιας κοινότητας για ένα θέμα κοινού ενδιαφέροντος, κρίση που σχηματίζεται στο πλαίσιο κοινών πολιτικών στόχων.</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Qualter,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ρήσεις της κοινής γνώμ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φυγμομέτρ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ιγματοληπτική έρευν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μάδα εστίασ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βουλευτική δημοσκόπηση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στρατευμένο κοινό (issue ή attentive public) αναφέρεται στη μειοψηφία που έχει ειδικό ενδιαφέρον ή γνώσεις επί ενός συγκεκριμένου θέ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3T06:09:04Z</dcterms:created>
  <dc:creator>pc</dc:creator>
  <dc:description/>
  <dc:language>en-US</dc:language>
  <cp:lastModifiedBy>EPIMELEIA</cp:lastModifiedBy>
  <dcterms:modified xsi:type="dcterms:W3CDTF">2013-09-23T09:16:54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